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604BB-AF21-4061-86DA-D3AFD5267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67A46-F064-4F35-9F38-70D64941E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2F821-73D3-4F1F-8F3F-047655688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D5964-A642-4CED-9184-9AF18DBFC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10429-F806-4A30-A17B-899BFD751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27EA8-44AA-4D7E-8BA0-0A754A4F0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B4B26-BB29-4F19-B3F7-9E7806113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DF4A2-039F-4D07-BE73-CAF270750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646D6-326F-4B5D-8EBB-329436B0A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694C1-9929-4821-A203-63A354B35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025E1-F3FF-4089-AD7C-5B65E9FDB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A6749-5C3F-4E8E-8B6B-497F72829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C1F0E-CD7E-4E38-B318-B3C081415B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d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dgf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dgsd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4T18:16:51Z</dcterms:created>
  <dc:creator>Kalli B. Falkner</dc:creator>
  <dc:description/>
  <dc:language>en-US</dc:language>
  <cp:lastModifiedBy>Kalli B. Falkner</cp:lastModifiedBy>
  <dcterms:modified xsi:type="dcterms:W3CDTF">2012-01-24T18:17:17Z</dcterms:modified>
  <cp:revision>1</cp:revision>
  <dc:subject/>
  <dc:title>sdg</dc:title>
</cp:coreProperties>
</file>